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25C-8A0B-4628-8C64-596F87EC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1BE-18FA-47AB-BF0A-C2C971A9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549-2A80-4B1C-9340-E9CE007A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153-BE8B-4123-A5E1-A3A45C30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CA8-EBE0-440A-92C2-88F31DD4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F74-34B3-4D8B-B5D5-E0B1668C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2DD-87EE-426D-82DC-18CCCE7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C69-B6BE-401D-AB84-1E793E1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B29-69F3-47C3-8F07-78325EE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D32-677E-486F-9386-BB4226C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71B-4396-4717-B0CC-00CB985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E70-B23D-4710-B4A7-AA13BE6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B90-0DC4-43A0-AE35-224BA69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471-D902-4DFF-9B41-98F4FEB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8C47-4837-4961-BF5B-75DD9EC8B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530280" y="205416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ation by: Danae Jacobs, Hailey West, and Grace Arm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Documents and Settings\HP_Administrator\Local Settings\Temporary Internet Files\Content.IE5\OJYH0X8D\MC900083803[1].wmf"/>
          <p:cNvPicPr/>
          <p:nvPr/>
        </p:nvPicPr>
        <p:blipFill>
          <a:blip r:embed="rId2"/>
          <a:stretch/>
        </p:blipFill>
        <p:spPr>
          <a:xfrm>
            <a:off x="7467480" y="1143000"/>
            <a:ext cx="1549440" cy="181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Documents and Settings\HP_Administrator\Local Settings\Temporary Internet Files\Content.IE5\I5GVUF2B\MC900083797[1].wmf"/>
          <p:cNvPicPr/>
          <p:nvPr/>
        </p:nvPicPr>
        <p:blipFill>
          <a:blip r:embed="rId3"/>
          <a:stretch/>
        </p:blipFill>
        <p:spPr>
          <a:xfrm>
            <a:off x="5638680" y="380880"/>
            <a:ext cx="1557360" cy="181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HP_Administrator\Local Settings\Temporary Internet Files\Content.IE5\UNS18Z0T\MC900083799[1].wmf"/>
          <p:cNvPicPr/>
          <p:nvPr/>
        </p:nvPicPr>
        <p:blipFill>
          <a:blip r:embed="rId4"/>
          <a:stretch/>
        </p:blipFill>
        <p:spPr>
          <a:xfrm>
            <a:off x="5791320" y="472428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:\Documents and Settings\HP_Administrator\Local Settings\Temporary Internet Files\Content.IE5\UZEFYD4F\MC900083811[1].wmf"/>
          <p:cNvPicPr/>
          <p:nvPr/>
        </p:nvPicPr>
        <p:blipFill>
          <a:blip r:embed="rId5"/>
          <a:stretch/>
        </p:blipFill>
        <p:spPr>
          <a:xfrm>
            <a:off x="152280" y="1447920"/>
            <a:ext cx="1559160" cy="180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HP_Administrator\Local Settings\Temporary Internet Files\Content.IE5\OJYH0X8D\MC900083813[1].wmf"/>
          <p:cNvPicPr/>
          <p:nvPr/>
        </p:nvPicPr>
        <p:blipFill>
          <a:blip r:embed="rId6"/>
          <a:stretch/>
        </p:blipFill>
        <p:spPr>
          <a:xfrm>
            <a:off x="0" y="3733920"/>
            <a:ext cx="1554120" cy="17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C:\Documents and Settings\HP_Administrator\Local Settings\Temporary Internet Files\Content.IE5\I5GVUF2B\MC900083805[1].wmf"/>
          <p:cNvPicPr/>
          <p:nvPr/>
        </p:nvPicPr>
        <p:blipFill>
          <a:blip r:embed="rId7"/>
          <a:stretch/>
        </p:blipFill>
        <p:spPr>
          <a:xfrm>
            <a:off x="1981080" y="4648320"/>
            <a:ext cx="154944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C:\Documents and Settings\HP_Administrator\Local Settings\Temporary Internet Files\Content.IE5\UNS18Z0T\MC900083809[1].wmf"/>
          <p:cNvPicPr/>
          <p:nvPr/>
        </p:nvPicPr>
        <p:blipFill>
          <a:blip r:embed="rId8"/>
          <a:stretch/>
        </p:blipFill>
        <p:spPr>
          <a:xfrm>
            <a:off x="1981080" y="380880"/>
            <a:ext cx="1554120" cy="180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C:\Documents and Settings\HP_Administrator\Local Settings\Temporary Internet Files\Content.IE5\UZEFYD4F\MC900083807[1].wmf"/>
          <p:cNvPicPr/>
          <p:nvPr/>
        </p:nvPicPr>
        <p:blipFill>
          <a:blip r:embed="rId9"/>
          <a:stretch/>
        </p:blipFill>
        <p:spPr>
          <a:xfrm>
            <a:off x="3962520" y="4952880"/>
            <a:ext cx="154440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:\Documents and Settings\HP_Administrator\Local Settings\Temporary Internet Files\Content.IE5\OJYH0X8D\MC900083801[1].wmf"/>
          <p:cNvPicPr/>
          <p:nvPr/>
        </p:nvPicPr>
        <p:blipFill>
          <a:blip r:embed="rId10"/>
          <a:stretch/>
        </p:blipFill>
        <p:spPr>
          <a:xfrm>
            <a:off x="7599240" y="3581280"/>
            <a:ext cx="1544760" cy="180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Documents and Settings\HP_Administrator\Local Settings\Temporary Internet Files\Content.IE5\UNS18Z0T\MC900083819[1].wmf"/>
          <p:cNvPicPr/>
          <p:nvPr/>
        </p:nvPicPr>
        <p:blipFill>
          <a:blip r:embed="rId11"/>
          <a:stretch/>
        </p:blipFill>
        <p:spPr>
          <a:xfrm>
            <a:off x="3809880" y="0"/>
            <a:ext cx="15541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tational Period (Earth Years)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Hailey W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lanet must follow the following criteria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shall orbit around the s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not orbit another object (such as a moon orbits another plan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have a sphere like sha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rotate on its own ax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t not have an eccentricity level that exceeds .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not have an orbital period that exceeds 250 Earth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not be more than 40 AU’s From the S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orbit.jpg"/>
          <p:cNvPicPr/>
          <p:nvPr/>
        </p:nvPicPr>
        <p:blipFill>
          <a:blip r:embed="rId1"/>
          <a:stretch/>
        </p:blipFill>
        <p:spPr>
          <a:xfrm>
            <a:off x="6324480" y="4724280"/>
            <a:ext cx="2438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of a Dwarf Planet and other Objects Orbiting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752480"/>
          <a:ext cx="8229600" cy="4780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Orbit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orbit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orbit either a planet, dwarf planet, or an asteroid and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orbit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not orbit any other objects (such as a moon orbits a pla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rotate on its own 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rotate on its own 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not have an orbital period that exceeds 570 earth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nothing (natural; not man made) orbit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have enough mass to sustain its own gra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a sphere like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a sphere like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have other objects orbit 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not have an eccentricity level that exceeds 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 in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219320"/>
          <a:ext cx="8229600" cy="529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 Orbit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'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piter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n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anus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et Ship deb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tune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hat orbit a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bital Eccentricity Graph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anae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18"/>
          <p:cNvSpPr/>
          <p:nvPr/>
        </p:nvSpPr>
        <p:spPr>
          <a:xfrm>
            <a:off x="8152560" y="5791320"/>
            <a:ext cx="228600" cy="3045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1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16"/>
          <p:cNvSpPr/>
          <p:nvPr/>
        </p:nvSpPr>
        <p:spPr>
          <a:xfrm>
            <a:off x="228600" y="3581280"/>
            <a:ext cx="8686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0"/>
          <p:cNvSpPr/>
          <p:nvPr/>
        </p:nvSpPr>
        <p:spPr>
          <a:xfrm>
            <a:off x="8077320" y="5257800"/>
            <a:ext cx="304560" cy="2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meter of Planet (km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anae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5"/>
          <p:cNvSpPr/>
          <p:nvPr/>
        </p:nvSpPr>
        <p:spPr>
          <a:xfrm>
            <a:off x="8077320" y="5486400"/>
            <a:ext cx="304560" cy="2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Moo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Grace Arm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rom Sun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Grace Arm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42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bital Period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Hailey W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5"/>
          <p:cNvSpPr/>
          <p:nvPr/>
        </p:nvSpPr>
        <p:spPr>
          <a:xfrm>
            <a:off x="8000280" y="5105520"/>
            <a:ext cx="304920" cy="380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7"/>
          <p:cNvSpPr/>
          <p:nvPr/>
        </p:nvSpPr>
        <p:spPr>
          <a:xfrm>
            <a:off x="380880" y="3809880"/>
            <a:ext cx="84582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0"/>
          <p:cNvSpPr/>
          <p:nvPr/>
        </p:nvSpPr>
        <p:spPr>
          <a:xfrm>
            <a:off x="7315200" y="5257800"/>
            <a:ext cx="457200" cy="4572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3"/>
          <p:cNvSpPr/>
          <p:nvPr/>
        </p:nvSpPr>
        <p:spPr>
          <a:xfrm>
            <a:off x="6780960" y="5257800"/>
            <a:ext cx="381240" cy="380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23:21:41Z</dcterms:created>
  <dc:creator>HP Authorized Customer</dc:creator>
  <dc:description/>
  <dc:language>en-US</dc:language>
  <cp:lastModifiedBy>mchamorro</cp:lastModifiedBy>
  <dcterms:modified xsi:type="dcterms:W3CDTF">2011-02-11T22:17:12Z</dcterms:modified>
  <cp:revision>22</cp:revision>
  <dc:subject/>
  <dc:title>What is a Planet?</dc:title>
</cp:coreProperties>
</file>